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890AA-B6B7-4DBD-9271-61FF865D3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742C7-6AC7-4105-AD71-86A77580D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0A151-F81D-4E8E-AC0C-92494AD69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C5FB1-239A-4D87-922C-06822A175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72A1E1-AD33-4C3F-9B1F-D7141A114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D4CC0-D4C9-432F-90BE-6D70B6CFC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512AC-1020-4F6B-A114-DCC69623C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2BD93-DF35-4DCF-8401-CC8181803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CD0D3-E142-4F01-B431-67667B0B5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1920960"/>
            <a:ext cx="822636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82EAD-9DEA-4584-B90F-4ABA05CF3B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E40CE-6B3F-49DD-A8D7-8FDFE6E17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6039B-2623-4228-9A45-C750334D5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8E4AC-F2D6-4016-8E03-041751200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1A2DF-CFD5-455D-9A19-31985A97E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F3209-007D-42CB-B82E-986F288C3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473C3F-4B1D-4160-8A4D-EB9A43619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496AF-52B2-4AEB-98C5-2E5EF81578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1A3B2-DCDC-42BD-91CC-5BFE1BD18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E6A30-514C-422B-9008-8A653D5B5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DD962-D5D0-4C59-96D3-6E599466D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1920960"/>
            <a:ext cx="822636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620B9-B89E-4F62-8DD2-FA454B915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E2B6E-C581-46DE-9FFA-94D8CB108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705B6-EB62-4B79-9B65-F3438A43F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23701-F407-4BFE-937E-FD2E7E190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7476-1FF6-4D88-AE65-7AFE10F5ED4E}"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38D3-C45F-41FF-B5BF-1DE93521E9BD}"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2852280"/>
            <a:ext cx="8226360" cy="3311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u="sng">
                <a:solidFill>
                  <a:srgbClr val="ccecff"/>
                </a:solidFill>
                <a:uFillTx/>
                <a:latin typeface="Comic Sans MS"/>
              </a:rPr>
              <a:t>Cwn</a:t>
            </a:r>
            <a:br>
              <a:rPr sz="3200"/>
            </a:br>
            <a:br>
              <a:rPr sz="1400"/>
            </a:br>
            <a:r>
              <a:rPr b="0" lang="cy-GB" sz="3200" spc="-1" strike="noStrike">
                <a:solidFill>
                  <a:srgbClr val="ccecff"/>
                </a:solidFill>
                <a:latin typeface="Comic Sans MS"/>
              </a:rPr>
              <a:t>Mae ci o’r enw Buster yn pwyso mwy na’r ci o’r enw Eddie.</a:t>
            </a:r>
            <a:br>
              <a:rPr sz="3200"/>
            </a:br>
            <a:br>
              <a:rPr sz="1400"/>
            </a:br>
            <a:r>
              <a:rPr b="0" lang="cy-GB" sz="3200" spc="-1" strike="noStrike">
                <a:solidFill>
                  <a:srgbClr val="ccecff"/>
                </a:solidFill>
                <a:latin typeface="Comic Sans MS"/>
              </a:rPr>
              <a:t>Mae Goldie yn pwyso mwy na Brandy ond yn pwyso llai na Lassie.</a:t>
            </a:r>
            <a:br>
              <a:rPr sz="3200"/>
            </a:br>
            <a:br>
              <a:rPr sz="1400"/>
            </a:br>
            <a:r>
              <a:rPr b="0" lang="cy-GB" sz="3200" spc="-1" strike="noStrike">
                <a:solidFill>
                  <a:srgbClr val="ccecff"/>
                </a:solidFill>
                <a:latin typeface="Comic Sans MS"/>
              </a:rPr>
              <a:t>Mae Brandy yn pwyso mwy na Eddie.</a:t>
            </a:r>
            <a:br>
              <a:rPr sz="3200"/>
            </a:br>
            <a:br>
              <a:rPr sz="1400"/>
            </a:br>
            <a:r>
              <a:rPr b="0" lang="cy-GB" sz="3200" spc="-1" strike="noStrike">
                <a:solidFill>
                  <a:srgbClr val="ccecff"/>
                </a:solidFill>
                <a:latin typeface="Comic Sans MS"/>
              </a:rPr>
              <a:t>Mae Lassie yn pwyso llai na Buster.</a:t>
            </a:r>
            <a:br>
              <a:rPr sz="3200"/>
            </a:br>
            <a:br>
              <a:rPr sz="1400"/>
            </a:br>
            <a:r>
              <a:rPr b="0" lang="cy-GB" sz="3200" spc="-1" strike="noStrike">
                <a:solidFill>
                  <a:srgbClr val="ccecff"/>
                </a:solidFill>
                <a:latin typeface="Comic Sans MS"/>
              </a:rPr>
              <a:t>Rhestrwch y cwn mewn trefn, gan ddechrau gyda’r trymaf!</a:t>
            </a:r>
            <a:endParaRPr b="0" lang="en-US" sz="3200" spc="-1" strike="noStrike">
              <a:solidFill>
                <a:srgbClr val="ccec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2T20:20:49Z</dcterms:created>
  <dc:creator>Carwyn</dc:creator>
  <dc:description/>
  <dc:language>en-US</dc:language>
  <cp:lastModifiedBy>Carwyn</cp:lastModifiedBy>
  <dcterms:modified xsi:type="dcterms:W3CDTF">2008-12-02T20:24:49Z</dcterms:modified>
  <cp:revision>2</cp:revision>
  <dc:subject/>
  <dc:title>Cwn  Mae ci o’r enw Buster yn pwyso mwy na’r ci o’r enw Eddie.  Mae Goldie yn pwyso mwy na Brandy ond yn pwyso llai na Lassie.  Mae Brandy yn pwyso mwy na Eddie.  Mae Lassie yn pwyso llai na Buster.  Rhestrwch y cwn mewn trefn, gan ddechrau gyda’r trymaf!</dc:title>
</cp:coreProperties>
</file>